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D124-EF49-4A47-A2B0-158950E4F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52B0-CA70-40F1-B53F-9D575F16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3793-DD43-4914-A93D-D6B6BC7AC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AB19-A2AF-4250-8A08-6509D6749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B1C47-DFB7-497C-BEF3-159AFE891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C2D3-EE2E-4936-B9EC-882B36C2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9115-D744-4EE1-B92F-5FCD32CD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7296-8282-4AFC-BE3F-FD664943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07C25-409F-4AC9-9940-F9B18094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79DC1-E3D4-497F-8BEE-B42CE594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1DBA9-EE2A-492D-8F65-63DB90E4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C6E4-44F6-4DB5-8028-B357DC0C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6D20-FB2D-40F7-A53D-B11978AF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7AA0-CA54-41F0-ADD1-AF9A02CE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3B1E-ABE1-4848-9B81-E5A0C19E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61E9-DC5D-41D0-AB90-15D7A3B1B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9044-3845-4FB8-9FE4-B2B1FE95E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7778-62D9-498F-B2E1-3AA3F2AE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959B-63B6-4F79-8309-0284AD41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A837-82F9-4B2F-B170-7910B124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9685-8556-43BF-96E7-9F384B18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AC7B-28C9-4B65-AA8C-70A8911F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8059-A603-4C8F-821A-44A17251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1837-EB0E-48F6-B30C-4642E8AB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>
                    <a:gd name="textAreaLeft" fmla="*/ -360 w 475560"/>
                    <a:gd name="textAreaRight" fmla="*/ 475560 w 475560"/>
                    <a:gd name="textAreaTop" fmla="*/ 0 h 1219320"/>
                    <a:gd name="textAreaBottom" fmla="*/ 1219680 h 121932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500400"/>
                    <a:gd name="textAreaBottom" fmla="*/ 500760 h 50040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A04D-4074-48FB-8828-51533322E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1560"/>
              <a:ext cx="3621240" cy="6130800"/>
              <a:chOff x="5409360" y="61560"/>
              <a:chExt cx="3621240" cy="61308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6680"/>
                <a:ext cx="2115000" cy="2357640"/>
              </a:xfrm>
              <a:custGeom>
                <a:avLst/>
                <a:gdLst>
                  <a:gd name="textAreaLeft" fmla="*/ 0 w 2115000"/>
                  <a:gd name="textAreaRight" fmla="*/ 2115360 w 2115000"/>
                  <a:gd name="textAreaTop" fmla="*/ -360 h 2357640"/>
                  <a:gd name="textAreaBottom" fmla="*/ 2357640 h 235764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9480"/>
                <a:ext cx="906120" cy="84276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-360 h 842760"/>
                  <a:gd name="textAreaBottom" fmla="*/ 842760 h 84276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1640"/>
                <a:ext cx="439200" cy="39528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840" y="673920"/>
                <a:ext cx="388440" cy="550800"/>
              </a:xfrm>
              <a:custGeom>
                <a:avLst/>
                <a:gdLst>
                  <a:gd name="textAreaLeft" fmla="*/ 0 w 388440"/>
                  <a:gd name="textAreaRight" fmla="*/ 388800 w 38844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920"/>
                <a:ext cx="163080" cy="33192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600" y="1241280"/>
                <a:ext cx="190440" cy="14292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2360" y="294840"/>
              <a:ext cx="891360" cy="829440"/>
              <a:chOff x="5652360" y="29484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2840" y="473760"/>
                <a:ext cx="306360" cy="30060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4280" y="394560"/>
                <a:ext cx="319320" cy="15300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61400"/>
              <a:ext cx="1059120" cy="829800"/>
              <a:chOff x="968760" y="526140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6360"/>
                <a:ext cx="250920" cy="2995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040" y="5736600"/>
                <a:ext cx="429480" cy="2487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596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77FB-4EB1-43EF-B864-50B437BCD0C7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D780-61D8-49D4-A1F9-992D6E4FDAD2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1599840"/>
            <a:ext cx="716292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Lev Vygotsky: His Sociocultural Perspective on Human Growth and Learning.</a:t>
            </a:r>
            <a:br>
              <a:rPr sz="3500"/>
            </a:br>
            <a:br>
              <a:rPr sz="3500"/>
            </a:b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SAMPLE POWERPOINT PRESENTATION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ith Thanks to Lauren Pickens &amp; Kehinde Olowoyeye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B46F-E81A-43A9-9F88-E9D4AA228957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342880" y="102960"/>
            <a:ext cx="405756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Conclusion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ocial influences on cognitive development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evelopment of Children’s Mind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cultural influence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in collaborative interaction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guided participation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tasks in ZPD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what skilled partners say --- what they say to selve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ocial -- private -- inner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Culture’s preferred problem solving tools -- language of competent guides -- thinking of the individual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4FA0-5939-4162-AD6F-72CB249D0053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LEV VYGOTSKY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Rectangle 3"/>
          <p:cNvSpPr/>
          <p:nvPr/>
        </p:nvSpPr>
        <p:spPr>
          <a:xfrm flipV="1">
            <a:off x="4495680" y="3342600"/>
            <a:ext cx="5639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3" name="Picture 4" descr="1934"/>
          <p:cNvPicPr/>
          <p:nvPr/>
        </p:nvPicPr>
        <p:blipFill>
          <a:blip r:embed="rId1"/>
          <a:stretch/>
        </p:blipFill>
        <p:spPr>
          <a:xfrm>
            <a:off x="2666880" y="1523880"/>
            <a:ext cx="3578400" cy="490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8B0B-2FA2-47F0-8AAC-53B2020B1786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Introduction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Lev Vygotsky (1896-1934) Russian psychologis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25160" indent="-425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onstructivism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- social construction of knowledge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- hands-on, activity-based teaching and learning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25160" indent="-425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hallenged Piaget’s view on human development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25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FFC1-46B2-4083-AE26-9134D16C10FE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066320" y="990720"/>
            <a:ext cx="7620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ygotsky’s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Sociocultural Perspective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- cognitive development is shaped by sociocultural context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- the child’s interaction with members of his or her culture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2C30-3305-4B89-82B7-6CA767EF0F9E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6699"/>
                </a:solidFill>
                <a:latin typeface="Verdana"/>
              </a:rPr>
              <a:t>      </a:t>
            </a: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ultural Influenc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ays to approach and solve problems passed from generation to generation via oral and written communication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ulture shapes way of thinking: embodied in language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ognitive development not all the sam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ied at the age of 38 before theory fully developed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B344-C11A-4373-826E-32BB3DC32A01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2160" y="231480"/>
            <a:ext cx="746928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Enhancement of Speech in </a:t>
            </a:r>
            <a:br>
              <a:rPr sz="2000"/>
            </a:b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Early Childhood Through External </a:t>
            </a:r>
            <a:br>
              <a:rPr sz="2000"/>
            </a:b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Dialogue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Intermental learning-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individual interacts   with another person, who supported him/her to learn a new skill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Intramental learning-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ndividual internalizes  skill- can carry out new skill by him/herself.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Change from intermental to intramental ability depends on interaction with other people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Zone of Proximal Development (ZPD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B53E-60A3-42E4-8727-287DF22F7D51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Scaffolding-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e structure that enables forward motion within zone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ncremental changes in information support moves learner to his/her highest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Learning becomes “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decontextualized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” when transfer takes plac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ndividual has achieved goal when the new skill/concept allows for deductive reasoning to lead to problem-solvin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90EF-1838-41C1-8552-51811182B4C3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55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Zone of Proximal Development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8" name="Picture 7" descr="zpdshape"/>
          <p:cNvPicPr/>
          <p:nvPr/>
        </p:nvPicPr>
        <p:blipFill>
          <a:blip r:embed="rId1"/>
          <a:stretch/>
        </p:blipFill>
        <p:spPr>
          <a:xfrm>
            <a:off x="838080" y="1371600"/>
            <a:ext cx="7772400" cy="36576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8"/>
          <p:cNvSpPr/>
          <p:nvPr/>
        </p:nvSpPr>
        <p:spPr>
          <a:xfrm>
            <a:off x="457200" y="533376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Distance between actual developmental level and level of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potential as determined through problem solving under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adult guidance or in collaboration with more capable peers.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DDCC-EB02-494C-9EBF-9E6EF37164B9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6320" y="102960"/>
            <a:ext cx="679464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Cognitive Development and Language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Believed teachers and students learn from each other through words and activitie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eorized how children/adults learn from language and how language stimulates cognitive development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eorized child uses private speech to self–regulate internal thought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Viewed private speech as speech to oneself that guides one through thoughts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3T20:28:46Z</dcterms:created>
  <dc:creator>User</dc:creator>
  <dc:description/>
  <dc:language>en-US</dc:language>
  <cp:lastModifiedBy>User</cp:lastModifiedBy>
  <dcterms:modified xsi:type="dcterms:W3CDTF">2011-01-15T18:53:28Z</dcterms:modified>
  <cp:revision>19</cp:revision>
  <dc:subject/>
  <dc:title>Lev Vygotsky: His Sociocultural Perspective on Human Growth and Learning. Date: 10/24/05</dc:title>
</cp:coreProperties>
</file>